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6501E-CDE2-407C-9816-2C8CDDD2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AE824-42E1-4744-934D-DA628BB5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C87E1-A67C-4BC7-91FB-63B6AA23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7EF4C-E00B-4B51-82D4-4B24C057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B268-3174-4439-A778-46A803C7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9C12-3733-47BD-B25C-A855070E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6052-72F3-4A9B-A1BE-CC8406FE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85FA-D66C-4705-8F60-41DF4A55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2B4B-3313-4AA6-8EF5-A895ECC1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89E2-9B4A-4C26-8FD2-3D4F4EFA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35F0-AE3F-4F89-93B1-026FEDE1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FE119-5AC4-44B0-BDC8-89003DAF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60BB-9615-4473-B459-AC4EE071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008F-7BF0-4376-B087-11AE6754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E1F3-0271-4707-9BCF-6C347CD0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9963-F1AC-422E-AA2B-6244D9FD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9B38-DA56-47D8-AA0B-EE9D380E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B2DFB-A628-4CE1-9BB2-7A0D4CAB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BD26B-2EAD-441E-9BAC-798EA168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26049-8319-4C02-8F09-950573E5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D4A1C-D301-4D7E-B41E-55A273F3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C54C3-0CAC-41DA-A229-4F8892B8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59C54-BDB3-4AB7-AA70-1D2005DC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E3AD6-E569-4870-8CE7-609A4EB4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D2D2-8EDD-4420-8E4D-FED02A6B114A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FF99-FCBF-4C48-B00E-B024448F7E94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jfifo.uw.hu/vendegl.doc" TargetMode="External"/><Relationship Id="rId2" Type="http://schemas.openxmlformats.org/officeDocument/2006/relationships/hyperlink" Target="http://vallalkozokedv.webkatalogus.com/v_formak.html" TargetMode="External"/><Relationship Id="rId3" Type="http://schemas.openxmlformats.org/officeDocument/2006/relationships/hyperlink" Target="http://vallalkozokedv.webkatalogus.com/v_formak.html" TargetMode="External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gyéni vállalkozás: </a:t>
            </a:r>
            <a:br>
              <a:rPr sz="4400"/>
            </a:b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hagyományos étterem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03884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Terjeszkedési lehető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a főváros különböző belső kerületeibe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vidéki nagyvárosokb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63852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8c1ba"/>
                </a:solidFill>
                <a:latin typeface="Garamond"/>
              </a:rPr>
              <a:t>Irodalomjegyzé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hjfifo.uw.hu/vendegl.doc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vallalkozokedv.webkatalogus.com/v_formak.html</a:t>
            </a: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5229360"/>
            <a:ext cx="40323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Készítette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Palotai Tíme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Barakka Patríci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.11.01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Szükséges dolgozó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üzletvezető (vendéglátó-ipari végzettséggel)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nyvelő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pincé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szakács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4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Kft. Indítási költségei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Törzstőke: minimum 3.000.000,- Ft, ennek minimum a 30 %-nak, de  legalább 1.000.000,- forintnak készpénznek kell lennie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Egy tag törzsbetéte 100.000,- Ft-nál kevesebb nem lehet, s a forintban kifejezendő törzsbetét tízezerrel maradéktalanul osztható legyen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Közzétételi díj 2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Illeték 8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láírási címpéldány min, 5 db 2.000,- Ft/db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Ügyvédi díj: ügyvédtől függő, kb. 100.000,- 120.000 Ft.</a:t>
            </a:r>
            <a:br>
              <a:rPr sz="2000"/>
            </a:br>
            <a:r>
              <a:rPr b="0" lang="en-US" sz="20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ngedély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ÁNTSZ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tűzvédelmi hatóságok hozzájárulás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jövedéki engedély alkohol és dohányárur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működé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területi árusítá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Bejelentési kötelezett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szeszes ital forgalmazásának bejelentése a rendőrségen 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 zene/műsorszolgáltatás bejelentése a rendőrségen,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z üzlet osztályba sorolás</a:t>
            </a:r>
            <a:r>
              <a:rPr b="0" lang="en-US" sz="2400" spc="-1" strike="noStrike">
                <a:solidFill>
                  <a:srgbClr val="f7f3f3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 a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I. osztályba sorolás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elkülönített fogadótér a bejárattó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ndégekkel érintkező dolgozók formaruhát visel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zető és a konyhafőnök szakképzett és 5 év szakmai gyakorlata van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fellépő művészek A típusú igazolvánnyal rendelkez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égfelirat készítése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név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üzlettípus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ulajdonos neve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vállalkozás formája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Arcul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dohányzó és nemdohányzó 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barátságos légkö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ert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03200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c1ba"/>
                </a:solidFill>
                <a:latin typeface="Garamond"/>
              </a:rPr>
              <a:t>Elhelyezkedés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ővárosba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el a központhoz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orgalmas helye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327480" cy="380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8:27:06Z</dcterms:created>
  <dc:creator>Pekár Mihály</dc:creator>
  <dc:description/>
  <dc:language>en-US</dc:language>
  <cp:lastModifiedBy>Jakab</cp:lastModifiedBy>
  <dcterms:modified xsi:type="dcterms:W3CDTF">2010-07-05T21:45:20Z</dcterms:modified>
  <cp:revision>6</cp:revision>
  <dc:subject/>
  <dc:title>Egyéni vállalkozás: hagyományos étterem</dc:title>
</cp:coreProperties>
</file>