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F29F-0126-4A07-9105-6D10586BF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464E-936A-44D3-BB71-0CCA6A490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FAAF-1FC4-4534-8F27-C67DB580B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B9DD-D91E-4F2B-8950-75024C14F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05303-E106-4C81-86D8-E6A636687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8539B-FD56-4FF8-932A-1EC2DDFD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C0828-8AF0-4F75-AE1F-A55E68246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3CEDD-4A0A-4356-A391-24E47F8C8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BA63E-1919-4CFE-A069-096727560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52E5F-8DD7-4158-90CC-0A7727E8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D5470-65B7-473D-A008-ED784B31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9B82-6B9E-4929-9539-6CA214036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3D1D5-870F-404A-BC57-88A0436B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A5D31-0CCF-425B-B1CE-41CAF205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9C994-A550-454A-A059-73FB3BEA7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08C05-E3C1-4102-8C8A-FA77DC422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1BA5C-7C03-4EE3-AF80-7E329C5F8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7FD2-D478-4A5F-9FF0-73BB0C7E8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492A-FE8D-4461-8A5B-F32A22CA3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1E7F-0F28-4959-BEF0-98EE4E60D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D38B-DEED-488D-90CA-0EB625097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CDE9-7968-4C5B-B394-DEE909E2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0283-8556-46DE-8B09-BAA11791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FBC4-ADCB-471B-A2D4-44007307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621C8-56F2-42B1-B0FD-CFCBE60F7F31}" type="slidenum">
              <a:rPr b="0" lang="hu-H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B5648-F085-42D0-AC1C-4632F57588AE}" type="slidenum">
              <a:rPr b="0" lang="hu-H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MARKETING ALAPISMERETEK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58560" y="2637000"/>
            <a:ext cx="7010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9. október 20. és november 3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843280" y="3284640"/>
            <a:ext cx="341784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A VEVŐÉRTÉK FOGALM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= a megvásárolt termék vagy szolgáltatás (a) és az érte nyújtott ellenszolgáltatás (b) különbség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ermék értéke, szolgáltatás értéke, személyzet/kiszolgálás értéke, imázs érték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öltség, időráfordítás, energia ráfordítás, pszichikai ráfordítá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A MARKETING HÁLÓZATBA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szerzés és ellátás (logisztika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yártá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losztás (logisztika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arketing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értékesíté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zolgáltatá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304920"/>
            <a:ext cx="83534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GY NÉPSZERŰ TÉMA A 21.SZÁZADBAN: A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FOGYASZTÓI MAGATARTÁ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öbbféle modellt alkottak vizsgálatár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ásárlási szándék: a vevő „fekete doboza” (az individuumot rejti)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ismerhető belől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 vevő egyéni jellemző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 döntési folyamat eleme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MARKETINGTÍPUSOK A VEVŐ SZEMSZÖGÉBŐL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nerációs market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ulturális market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gionális market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1557360"/>
            <a:ext cx="1800360" cy="1603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867280" y="3141720"/>
            <a:ext cx="2590920" cy="17222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5940360" y="4797360"/>
            <a:ext cx="259236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MI A MARKETING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a vállalalati tevékenység orientációja a versenyképesség érdekéb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a vállalat és a piac kapcsolatán alapu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eredményességének feltétele, hogy az adott vállalkozá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megismerje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a versenytársaknál jobban kielégítse a vevők szükségletei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IN ALAPUL A MARKETING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evők szükségletei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élpiac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zervezeti koordináció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yereségessé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ELYEK A MARKETING FŐBB ESZKÖZEI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DUCT (termék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ICE (ár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LACE (értékesítés helye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MOTION (kommunikáció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245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000000"/>
                </a:solidFill>
                <a:latin typeface="Verdana"/>
              </a:rPr>
              <a:t>EGY SIKERES MARKETINGFOLYAMAT A 19. SZÁZADBÓL: </a:t>
            </a:r>
            <a:br>
              <a:rPr sz="3400"/>
            </a:br>
            <a:r>
              <a:rPr b="0" lang="hu-HU" sz="3400" spc="-1" strike="noStrike">
                <a:solidFill>
                  <a:srgbClr val="000000"/>
                </a:solidFill>
                <a:latin typeface="Verdana"/>
              </a:rPr>
              <a:t>Isaac Singer és a varrógé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11280" y="2133720"/>
            <a:ext cx="3363840" cy="4724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500720" y="2060640"/>
            <a:ext cx="382716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23640" y="980640"/>
            <a:ext cx="82436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000" spc="-1" strike="noStrike">
                <a:solidFill>
                  <a:srgbClr val="000000"/>
                </a:solidFill>
                <a:latin typeface="Verdana"/>
              </a:rPr>
              <a:t>Singer újításai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lábbal hajtott pedá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az anyagot varrás közben leszorító tal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000" spc="-1" strike="noStrike">
                <a:solidFill>
                  <a:srgbClr val="000000"/>
                </a:solidFill>
                <a:latin typeface="Verdana"/>
              </a:rPr>
              <a:t>az üzlettárs, Edward Clark ötlet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ingyenes „reklámújság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régi gépek beszámítás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női vásárlóközönség megcélzás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5056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1856: 2564 gé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1860: 100000 gé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1867: a </a:t>
            </a:r>
            <a:r>
              <a:rPr b="0" i="1" lang="hu-HU" sz="3000" spc="-1" strike="noStrike">
                <a:solidFill>
                  <a:srgbClr val="000000"/>
                </a:solidFill>
                <a:latin typeface="Verdana"/>
              </a:rPr>
              <a:t>Singer Corporation</a:t>
            </a: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a világ első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multinacionális cég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(Singer vagyona halálakor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15 millió dollár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210360" y="1844640"/>
            <a:ext cx="293364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0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Henry Ford, a Ford T tervezője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0920" y="1699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Minden vevő megkaphatja a kedvenc színű autóját, feltéve, ha az a fekete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763640" y="3164040"/>
            <a:ext cx="4537080" cy="36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A TÁRSADALMI FELELŐSSÉG KÉRDÉS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zabályozás hatás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tikai befolyá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tikai befolyásolá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senyből adódó hatáso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M EGYSZERŰEN A SZÜKSÉGLETEK KIELÉGÍTÉSE ÉS A PROFIT MAXIMALIZÁLÁSA A CÉL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04:09:15Z</dcterms:created>
  <dc:creator>MS-USER</dc:creator>
  <dc:description/>
  <dc:language>en-US</dc:language>
  <cp:lastModifiedBy>Jakab</cp:lastModifiedBy>
  <dcterms:modified xsi:type="dcterms:W3CDTF">2010-07-05T19:12:47Z</dcterms:modified>
  <cp:revision>4</cp:revision>
  <dc:subject/>
  <dc:title>MARKETING ALAPISMERETEK</dc:title>
</cp:coreProperties>
</file>